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C63-505E-4080-A44C-DB7B0F62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056-E2D2-49C7-A919-226381AC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BCE-5A72-4C51-B3E7-58572C19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986-5B2A-4378-BBCD-5D9B6417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1A3E-3303-4341-9D08-F2D3761F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76F7-4B20-47E3-B552-0D35B92E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1202-FC04-4C90-AAE3-6924F820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78CE-6704-4858-8DB7-647DAA8E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F2FA-F5CA-4673-A034-2B0AEB32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9361-7F8E-4AAC-8875-04A7660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A9BA-842A-4382-8345-3BB9927A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127-E403-4702-A795-FF38C432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00EE-E3D7-4502-9219-2B588718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DED6-CBF8-4466-B791-C9E07F52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531D-5842-49B2-B8B2-7FD65000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4396-41D2-4845-BF61-18798526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5F5E-9609-4ADE-88AC-1AD49881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CB242-9012-4433-8D0E-FC493FA7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64BF4-FBA6-434B-B525-302EB329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004A2-F155-4108-A107-186C183D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78524-5D9C-4C72-9D1D-2D65BC16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D94CF-82CF-4D69-AF0C-DC882B49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AC1-7379-4803-B7AB-DE113F88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9C1D9-D4E8-4735-8779-E84DCED0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95713-BC1A-4A91-A62C-0036103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7F505-9D40-4A9A-9FCB-CD175AA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3AD1B-7F5A-4494-B35C-4104866A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39557-5F99-419B-9FA6-6A449994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1E97F-0563-4C15-AD1B-4A38159C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2B5D8-9761-4C6F-B695-C024ABA8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2F6B7-9955-41C0-8C29-6C5E95C7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A02A63-3EEA-4108-A650-23422758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F27B0-846C-4A82-AFCB-18B1BAFC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D89-E145-4970-A533-5C59C4C3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1C78D-9769-4F52-84E0-A19B9CB6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E5965-E6C1-40FF-BA7C-373F7600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127E3-7388-4850-9234-377BCA03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0629B-7F81-44A6-8A7B-E2E7FFB0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23D31-78BA-4E06-92E4-1D378B91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A22E2-49CD-4CE2-9118-32F3125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4F3A5-9DA3-4774-9A6A-2A5D767D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2C279-1C8D-4540-AD91-289D72AB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2AC1A-007F-4071-803B-0034A5A1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11D98-3AAA-4496-BA15-1B71DDF4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E35-25A4-4855-8EC2-E5762458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4097E-B7B1-4B32-8678-43032F14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ADEB3-31A7-41DD-AE12-7D3319AC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DDB32-CC9E-4595-ABB2-CD528076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1DD6A-BDDE-4D73-ACC2-DA383F78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E3CD3-6743-451C-AA36-C1C46035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690C2-8874-4240-BA40-88C8E61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C0A4F-CA31-42C6-8820-B8B9DA6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2E803-C523-4B78-8B2C-EB7C1CFD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EBDC9-88C2-411E-93DC-B1C817DA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69CA7-E250-4A47-B0D3-B1898965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962-966F-4216-8A3F-65588109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F0CBB-D092-40EB-A61B-E7219C59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999A2-3F68-4480-9AD1-20030D9B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B2A74-5113-4F50-B165-159367F4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F7A00-3089-4EFC-9E26-80213AFE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E802-E2B0-4880-B9EF-833245E7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CCBD-0381-4A82-9616-972D1F71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65504-5A16-4820-B1A5-7D81E9E8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DE9D3-9E33-4466-A428-7F022EAE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93E47-BCD8-4922-9F99-257A3459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25BC-6DDE-4849-9344-2A469A5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AD9-8CF9-4C51-A34F-A261E988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610F9-CE61-428B-B202-6A6006F4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25CE9-518A-4196-9318-B6C05944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FBE8B-1574-42BA-A0A6-77404FAF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A8554-6DB8-40AD-B2EF-0C659E5C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A213C-8ED9-4A6D-8645-83C1F055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DC37F-78F0-4124-835E-EB257C93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639F3-6721-4929-ABC4-E9F914FD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02FB03-595B-4E61-B01F-4999DB9F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E0F97-9658-44E7-9E15-B947D315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E8877-CD42-49E0-A09A-6050210A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344-E106-4D36-83A4-4D0F8C0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6EA23-3615-4AA0-8E37-A7CB4FEE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BE024-E301-411C-B1AC-F5BF40A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BCA58-3CD9-48B9-9049-56AA8BBE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7AF0F-8733-4C53-99DA-695BAF9D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79BF9-B52A-44BC-9E65-F305FC6F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609EB-5012-4B99-829D-C0024D50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B2C8D-33D9-46A1-9D79-6790EB43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60968-9053-4B7D-A5C6-7146083D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8A21C-591A-4998-AC7C-45428418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6E26A-BC45-4A40-A64F-8AA82E47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AD1-ED09-4013-B1DF-87CA0E91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2CC1C-AF32-45C4-B3A7-61D60A98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4914B-2060-4FE9-9F8D-1E62D149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F9F9E-5F9E-43E7-94C9-3E56D8B6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DAD26-FEE6-4797-9BD1-D4E35093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A007-5F71-476F-840B-A9EE0DF8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4B1B8-3AC3-4EFC-8BDA-E81A4FF1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41EAD-A0FD-411E-8BC0-B9C4EB28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FACAB-09B1-4674-AD3A-FACC0C21E1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87A52-1032-4EA4-AD82-F152E390C90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AF9CE-F87D-47BB-9F6F-BDE1C5C83BB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F0297-7CB5-4C73-96B7-7813751D9B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EA82E-6C36-42C9-881D-1D82770494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4008B-E469-4B67-8FCC-250A72668DC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CC88F-CFC1-4909-821C-780675AAC6EE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F8F49-CE05-49D7-82B1-1C8085F8E4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Table_one@gmail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allwisher.com/wall/21stCentrySkill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36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KNOWLEDGE BUILDING CENTERS WITH DAVID LOERTSCHER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440" y="1906200"/>
            <a:ext cx="749124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Everyone please log on to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</a:rPr>
              <a:t>https://sites.google.com/site/paknowledgebuildingcenters/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 Characteristi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1" name="Content Placeholder 5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3000" cy="4505400"/>
          </a:xfrm>
          <a:prstGeom prst="rect">
            <a:avLst/>
          </a:prstGeom>
          <a:ln w="0">
            <a:noFill/>
          </a:ln>
        </p:spPr>
      </p:pic>
      <p:sp>
        <p:nvSpPr>
          <p:cNvPr id="372" name="TextBox 6"/>
          <p:cNvSpPr/>
          <p:nvPr/>
        </p:nvSpPr>
        <p:spPr>
          <a:xfrm>
            <a:off x="-313560" y="1600200"/>
            <a:ext cx="9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project promotes mastery of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Century Skills that in turn drive deep understand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 Characteristi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und Instructional designs are used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derstanding by Desig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nk models (Loertscher, Koechlin, Zwaan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ctive Inqui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te: Direct teaching of prescribed basic content does not usually work in  a KB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 Characteristi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KBC is available to students and adults anywhere, at any time, and on any preferred devi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5164200" y="2852640"/>
            <a:ext cx="347832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 Us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ngle-class explor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oss-class inqui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oss-district, community, state, world inquiry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hool projects/initiati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fessional develop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fessional learning communit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5364000" y="4500720"/>
            <a:ext cx="3535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s Always End with a Big Thin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cognitive Ref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 kn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we kn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I lea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we lea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 wha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’s ne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5502240" y="2589120"/>
            <a:ext cx="255420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t’s Experience a KBC Togeth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 are all looking at our KBC on your computers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blem: What are 2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entury Skil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rt one is finished for you – go to the workspace spreadshee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able recorders log in: </a:t>
            </a: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Table_one@gmail.co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 …etc.;  password: knowled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r task as a Table: Synthesize a list of 2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entury Skills from all the docu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 have ten minutes… and probably won’t finis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ur Big Think (see Reflection Tab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wallwisher.com/wall/21stCentry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ost two responses on the w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Thanks for participat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Keep in Touch: reader.david@gmail.co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sump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chnology has changed everything; particularly Web 2.0 tools and cloud computing opportunit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udents have chang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ducation must change to preparing kids and teens for excellence; not minimu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braries and computer labs must chan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alists in the school have not often been in the center of teaching and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can this chang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sumption: teacher librarians and teacher technologists along with other specialists in the school have much to contribute to the classroom and to the quality of learning experienc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 Simple Solution: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Knowledge Building Centers: Environments Where Collaboration is a Natur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7" name="Content Placeholder 5" descr=""/>
          <p:cNvPicPr/>
          <p:nvPr/>
        </p:nvPicPr>
        <p:blipFill>
          <a:blip r:embed="rId1"/>
          <a:stretch/>
        </p:blipFill>
        <p:spPr>
          <a:xfrm>
            <a:off x="560520" y="3340080"/>
            <a:ext cx="8254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mple KBC – on your scree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9" name="Content Placeholder 5" descr="pic 5.png"/>
          <p:cNvPicPr/>
          <p:nvPr/>
        </p:nvPicPr>
        <p:blipFill>
          <a:blip r:embed="rId1"/>
          <a:srcRect l="-8125" t="0" r="-8125" b="0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BC is Si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KBC is simple to construct on a variety of technologies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oogle Sites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odle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lo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k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3" descr="Pic 7.png"/>
          <p:cNvPicPr/>
          <p:nvPr/>
        </p:nvPicPr>
        <p:blipFill>
          <a:blip r:embed="rId1"/>
          <a:stretch/>
        </p:blipFill>
        <p:spPr>
          <a:xfrm>
            <a:off x="4121280" y="3157560"/>
            <a:ext cx="46447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Structure of the KBC Makes Collaboration a Natur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325116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 feel like help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vit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ngag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ive and tak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Diagram 4" descr=""/>
          <p:cNvPicPr/>
          <p:nvPr/>
        </p:nvPicPr>
        <p:blipFill>
          <a:blip r:embed="rId1"/>
          <a:stretch/>
        </p:blipFill>
        <p:spPr>
          <a:xfrm>
            <a:off x="3267000" y="3164040"/>
            <a:ext cx="46641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Tw Cen MT"/>
              </a:rPr>
              <a:t>Specialists are at the Center of Teaching and Learning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Content Placeholder 3" descr=""/>
          <p:cNvPicPr/>
          <p:nvPr/>
        </p:nvPicPr>
        <p:blipFill>
          <a:blip r:embed="rId1"/>
          <a:stretch/>
        </p:blipFill>
        <p:spPr>
          <a:xfrm>
            <a:off x="731880" y="2762280"/>
            <a:ext cx="76737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Tw Cen MT"/>
              </a:rPr>
              <a:t>Personal Expertise and Collaborative Intelligence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Content Placeholder 3" descr=""/>
          <p:cNvPicPr/>
          <p:nvPr/>
        </p:nvPicPr>
        <p:blipFill>
          <a:blip r:embed="rId1"/>
          <a:stretch/>
        </p:blipFill>
        <p:spPr>
          <a:xfrm>
            <a:off x="407880" y="2590920"/>
            <a:ext cx="80535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4:13:12Z</dcterms:created>
  <dc:creator>David Loertscher</dc:creator>
  <dc:description/>
  <dc:language>en-US</dc:language>
  <cp:lastModifiedBy>Joanna Mangiapane</cp:lastModifiedBy>
  <dcterms:modified xsi:type="dcterms:W3CDTF">2010-04-14T13:05:48Z</dcterms:modified>
  <cp:revision>37</cp:revision>
  <dc:subject/>
  <dc:title>Knowledge Building Centers</dc:title>
</cp:coreProperties>
</file>